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A75A-D622-49F0-84C8-648DE9EFF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CC72-0ADC-4996-8210-65D9A4E49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7F9AB2-A17E-4962-8637-EFA62082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9F2C67-4924-4482-B464-363D90166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7582DB-41F0-4D81-8ACF-2081E015C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BED44C-3452-460E-B1DD-03833746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A8D6A6-30E0-4D93-8ED0-F7040227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38DEB9-D1A6-42BC-8416-CB4D74A8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9376E9-1DF3-4819-81F4-2D5DAA5EF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6BC924-2114-422D-A395-9844CB024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320793-E654-4FDF-BA0D-78C2A874F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142536-7FDC-462D-BE56-4B5996E9D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AAA9-68B5-460E-8150-C88D86AE4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7BFC86-DFCD-4811-8491-59F28619D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A35244-A69F-4ABD-89FA-7AFCC9D94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1CEE92-2F37-4A00-902D-1227323DE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6E05D1-475B-4C32-BF64-829521F7C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39B43D-7347-4F1C-B71D-F0E87CAFA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850A24-36B9-4F36-A4EE-5DCA9A63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DCE6B9-7A44-4767-A0D4-CAB6C37D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5C1BA9-3BE2-47A4-82FD-539A367C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00C2C5-EDDD-422A-86FA-9CB5E73BB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176AB0-D218-46DE-8717-7790767E0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02B7-54E1-4CE3-80F7-C5B78BFFA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52FE59-6903-4602-B782-78F6645FD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9DEEB1-63AB-4484-A997-13288B7B6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FA109E-2D6C-4E5F-B7C0-1058A687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F14165-A784-43FF-AEB5-4EAAE30E8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4E0191-9E08-47B2-BDC3-8E1999AD8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9302F3-30A8-4D3E-8BEE-B93C1A1D3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CE786B-06B9-45AE-B222-0368EF8AD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E7083A-1C40-4E8A-86BE-75201B25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3A6C96-64D7-4C34-A0DA-9090ECB0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3A20B0-2304-4A80-8DD8-D9F1FA32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CD94C-FA28-40E6-B0F6-D5F1E7310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741588-AC6A-4C13-8C0D-03717F431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7864EF-A7FA-4D62-B152-7627DA4A1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718F47-E88A-40A8-BF78-737349BBB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C10141-D42D-4321-8ADC-5C8354D91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3CEDA6-63AA-4A46-A2EE-B1D7B9311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8A0AB9-124C-439C-8382-71A491105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B17C05-B4EA-4107-9BEB-996D63B2E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101A3A-E604-4C99-99F4-487C10E41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C5CA25-E76B-40FF-93BD-0C4573017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2817AB-F7ED-4F13-9D1B-960AD7E5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C31EA-7D19-4CE1-AE73-DEA98E955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8CA69D-A4C9-41AD-87F4-0B265D86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11365B-E6EC-491B-B1D0-C14F28C2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3DC814-03BB-4808-B25E-340C79F94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C30BCB-78F2-4B2A-BAA1-20918EDA5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926603-4241-4811-AAC8-E0EA21F58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AD8148-C649-495A-9150-FFF00A365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FA0F86-5E4E-4F8B-9B08-70BC62E41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47DBF7-6D03-4AE6-96DD-EEA3C2EB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091429-819D-43F4-B5E6-E3E10FF19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1BCA94-9522-487C-9F45-696D0B42A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A5327-D59A-4A0A-A6CA-79665F0A1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067383-87BE-4F2F-A79B-E181FBAB1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748696-C9D0-4A7A-89F0-0DF1AA4F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B01592-861E-4D5A-99E5-8C4B9331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01D74E-9889-422A-AB69-D9C9C8E8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980B43-C454-4540-BE7D-D702BA619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F0C007-28B2-440E-A37D-4B5DC5EE9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B0722B-5415-4CDB-9E4B-44B54EADF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497504-6617-4D64-BBC7-5123A0F15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1D77EF-0171-419A-8F95-4282C5974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626869-9482-4D73-AFD6-A43E6CCE1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268EB-5B6D-470D-883F-78B7E065B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51C4CC-FB11-40FD-A250-4FE2D57ED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E44BD1-8105-4FDC-9F58-7EE5F9C03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7068D1-195D-4936-856D-7B70573CE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8EC9C9-A4CF-4181-AA72-111A2BC4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910159-29FD-4547-9E1F-A51AE89A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F2F7F6-AF98-4B35-9A0C-8485814F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9EA07C-126D-4513-9614-C01783F1C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3C6D3A-2BB4-4986-BED9-1710BB5D4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A87257-984A-4F01-8992-B93C037BA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10BE17-C24F-4F76-8D26-79822A164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88D44-ED07-4938-BFC1-8D379733B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372732-5EF7-48EF-A6B6-0FF8F315A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3938F8-E3F4-4907-B9F6-5A05D4355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2ABB93-CD5F-47A8-80FE-77A852CCA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6696B8-7C21-4C99-97C7-F801BFAB4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366360-B065-4C48-B6BA-0471939D0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DB0641-5288-4EC4-83B4-D735F061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010EAE-D6D7-4A5C-8EF0-84D954AC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2DD955-2996-4A85-9EBB-7CE728C0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666B18-658B-40AD-A5E7-9320F7360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860C1D-7023-45CF-89C1-AF121D145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FCC9E-64AA-48F4-BA89-DCA0502AB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D28249-25EC-46A3-96CF-42CBB68D6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C7C40A-0D7A-4688-AE2A-1F8809F1B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01F789-C02C-4843-A77C-CBC04F72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63663E-28F1-464E-8B36-0AB1830BC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7B8935-F17F-4970-817F-20DB5B98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BCD21F-E8D8-4643-BB5D-D9C8EE37C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C35FC4-0CD6-49D7-8DAA-0E59EB68A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E77A1D-9036-49F2-BDCE-6FDF0D37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03EE14-7E1F-425E-A26A-96982E97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2267DF-C5E8-4521-BC85-1A29CE3F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E1CB7-4A8A-4C85-8DB0-C7C15DCE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E59636-3616-4FAD-B7BB-1678598A5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733C36-7827-4231-AE3E-A9904BEEA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8A9939-B2D0-43F7-A622-7B03FF130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B9AD78-BF53-4ECD-BC41-0E27D3CB3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C531AD-B7A7-43A7-817C-2E2CAD7A0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5AC9BD-96F9-4314-B211-983B09BAE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F1A2C2-2166-4937-9A61-E0C4C2293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02364F-FBCB-43D5-BC58-E271E0255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E0E27B-D6C7-4A35-8726-491958F11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260881-C589-4795-83DD-69E8F1DA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065D-C880-4894-92A8-1EAD5DD0E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4DEC4-3463-4F9A-9641-35541CB4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5FB9D1-62C7-46C2-92DE-7FC69530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1B7A0A-CF76-424C-994F-69DC6C26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780F79-B417-4017-A43E-F775FACFF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34897C-B8EC-44B5-8F3F-DDE9F2C6F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5B1BBD-DDBF-47F7-9A38-26618AF5A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5FCD08-AE89-4F5C-AA85-32BC6B3B8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C0800D-9CF0-4544-B0F9-17EF60DBF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796616-49A1-4C97-ACC7-156002365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DCD8A3-7BDB-45FE-9E02-48D47A2CF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D9ED41-46AB-4257-81C3-C5DFEA26F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1C53A-2C75-4509-B746-BF9B1143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51FEBC-F3B7-4EEF-9021-44325C76B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48A555-799B-49F5-A666-85A6F963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D7EECC-60A5-4A75-BD7D-65ADE407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E22B52-39FD-4674-B05A-C0749DEE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BCF209-6EF7-46E4-913E-8DCEAAAA5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D996F0-6423-44C5-8F16-0CA483754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5FA65F-429D-4B6D-A335-026B1698B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00D56E-A3AA-40A8-98B1-44DBC5799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8DE540-0AB8-47C2-9B4F-3C09A58B0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60B1E6-C4AE-4C95-B20C-B7908BEE5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0B76C-2183-4944-BA33-2A9FEAC21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237F0C-FCCA-4E72-A2E0-736B3563D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8CBCB1-9847-41F6-8F97-45162E7AD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33CDF7-6941-4CF6-B1BB-78D0347DC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07A7EA-37EB-4922-ADF0-59635050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F4CE24-124A-44A0-A650-BAADB3DD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8F3185-DCC3-43C6-87D5-4042833B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51A26B-F8F8-4E19-A6A7-CBDBDCF42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13D2F8-CA04-4F35-BC6E-D8A15C70B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91D475-FEAE-4611-B908-D11CA99E0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CC33BE-AD58-4D8C-80A7-3BE90A400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3C63B-9A05-42AB-9EF1-297E87538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DE5DAF-6C22-4417-819C-394ADE61C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B6CDEA-4699-4247-8830-B72D49298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C91BCE-E4CD-426A-BDFA-F7ADE637E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1F2A6A-F9F0-4A1A-99C6-837535B17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4C5288-0373-4D60-8F0C-30F34CBA5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463E1F-ABD6-4F96-AA74-17A4113D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6EE6C7-2951-40A4-9C15-44B008F2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8FA046-00E3-4F8A-B3D2-0F3A2FE2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AEDDB2-2A39-4766-A934-46417D53B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0FD8B8-47B3-4E94-AF3C-01A302C7B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AC9B7-F3F5-4BD3-9043-AE200F5A8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867C8E-9049-4897-8A62-40B60FF3C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4F338C-043A-4E6B-8CC7-5FB296563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88C270-7A0A-42FD-BF33-34437B14D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A88083-A5B4-4CC1-9FD4-F06346F9A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44EAA7-FFDF-48B5-B2D7-840B327D8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B6021A-3C32-463A-8076-F4C1A9476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6A9D92-1761-4A60-8325-A122D2657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EF6205-2531-4ACC-BADD-29D02170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64E36A-CADB-4F7C-922F-5745E6DC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FF5113-F93C-4FF5-B076-A138B78F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3BED4-49EA-406E-A8EA-7B6DFA792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FE8D27-3E1C-468E-8D18-41B9477B0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6C9931-F357-40CC-88DF-CD799D979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9BDCCC-7B50-49FA-B910-BE734A3BD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3D52D-8C98-43AD-91E3-6D460DFFE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5A61B-FE15-43C2-9E08-EB4F24E13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FB653-3795-4B65-B900-EFEE85BA2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81D48-71E3-4715-AE5C-02A08FE14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943B-C198-4F2B-B0F7-6183CF043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4D54A-6AC1-4F95-BBB7-DB288B556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B0E11-C0F2-4B14-BDA3-E83805C5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C3EF4-1EBB-4478-8790-1EE59EC1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597D1-D332-42DE-8327-55ECF740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BACF7-2BA5-49A0-95EC-266487688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D3D8C-3261-4C52-98B2-D323CECD5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11581-EE62-4CD5-A9C5-13DC827B3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69573-A8B8-4BB6-85D8-07CF86904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16267-424A-4979-899B-928837EED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4C929-F9E7-4DE9-B9B1-900F619EE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A801-57AD-47CB-801A-4EE62861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B09A6-E945-4E0D-A349-CD482DDBD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3622B-C0AF-4C5D-9191-0588F144B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0A508-AE92-4263-9A09-55B3C008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F2111-AF49-46E3-8220-FCF1CD4F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2BAB7-22FA-42D0-ABCC-E70173D9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8C6A6-2283-4EBC-B93A-D59EA14F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10915-6C4B-4FCD-B8F7-C4C9FBFC8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3E67B-0438-47F4-868D-B5D048E14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B7305-E925-4F04-BAE7-89CCC837D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EB8ED-746F-4854-A795-91AD18CBF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731C-F081-4933-B2BF-5EF2F1A62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3B02F-9431-47E0-988A-6DC06F2B7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79748-0D24-4449-A8DF-F2EE077D6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9D3A5-4437-495D-B275-625E9C959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757C3-948B-4C27-83AC-80A28EC41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94321-6FD0-4CE8-8C1A-F9AAC2437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42E0D-55BC-4D74-85D9-49DED030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2E881-844A-4E61-A2EB-E9E44E37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07EBF-C821-4E20-B5F1-0A435B84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3B920-3D90-42A8-83FC-5B5B0CA58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A8D4A-8598-43C3-AA01-CE145959E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98DE-EFC5-4C55-9879-34D76FB49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B6ADE-A7AC-4379-8CC0-E98309369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375C9-D900-44F8-8344-047DE2C4A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E3C9B5-A6A0-4DA7-8B6F-853C8D9B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17328C-7CE4-4C66-893B-6CF6D5031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AE338-EC10-469D-9376-9D5BBE5B0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B31F3-2450-4B73-AD91-F0489EC2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B0726C-3DB7-487D-993C-2EDEBF95D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3D143-6F50-49F3-9B6F-DE543D2C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978A4-3184-4C89-88FD-0AFB3C0A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79168-ADB7-466B-B5F1-62842B6E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0E11-31EF-4584-A4B3-D8B9E2CC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CBEDA-D92F-4423-8768-E45D8F452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B2FA9-0738-4F15-A90D-903EA0DE5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59230-58D0-4D30-A1FA-740EB0953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A616E-3399-41C1-ACFB-072D42A56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37B825-3E4A-4041-897E-AD922C89E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2626B6-05A2-4295-889B-A6815A321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7E0C4F-0763-4FB4-B83A-073702203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B522DE-DA14-414E-B270-E05896F82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2A85A3-E4FC-46A4-A044-4E1646073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B3E685-9433-4806-BDDB-8A263EE7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9C23-1181-4DAF-B894-45DCCE68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25B31C-4B50-4740-8A51-ACDF1587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620A9-3424-4E73-846E-6237F3DD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C8CEB-88A0-4FF1-8340-225604305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E1C99-8CA6-406A-8B1A-0DCF88CAC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B86EE-7031-43E0-AA74-8626CDA99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054865-A9A7-468D-A8FB-D3AD24B74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682DA4-484B-4719-94AD-14FA028CE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2F8F11-3925-4CE2-89CD-5DC158FBA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125B55-35FE-4087-B61D-7480E700D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E7BA0A-441D-4A74-95C6-AE315B1AF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4EA4-5D6D-49D4-AC4B-4E849B81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0E84FD-F2EB-4262-AB81-E1382B6A1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F173B3-DEE0-4D1B-B68D-AA3EC431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02030-A8BC-400D-B264-3FA17CC8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A660EF-82A9-4267-A7AD-E0408393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29365-8CFD-4762-93DF-9429677F5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A48E5C-1F6A-4747-9503-3B9E5E13C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7FA5BD-419D-4C8D-B0EF-46188CE18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CE02E5-8F2B-4ADC-9684-EC5070947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69764B-E893-4964-B0F3-E7DEC43C1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1FE1B4-3EBE-4E4B-B740-1698B5C28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2F69D-E7C8-4228-9435-36BDD88714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59928-19F9-45FA-BA07-77776C3032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4E7BF-B789-4135-8285-15D4B7AA02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4EC4B-58CE-4500-8115-9426A52475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6DC1A-46B9-473A-A934-570C97374D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67D39-012C-4D5F-9F72-CFDB760964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734D4-F7A3-4EC7-8035-3F199AA251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B511B-1325-4587-B66A-C465D926B9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4F471-0481-4C2D-A1E4-DBEABD0A8A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BCC56-EA4F-4B10-B1CB-33A4CA36A0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EAB62-AD38-4F8B-BC60-9A9578AD4F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199D4-8FDB-4125-AFAD-28EF21800F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23A26-2A83-488A-B8CF-9B199B9FDF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FD5FC-0B32-4408-80BA-EB3FC8E7FB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3C80F-1222-424C-A52D-10BCABB8EF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52BB6-7B52-4F44-8721-175A3908E8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EB492-BA20-4055-BA5A-87F7E8FEEB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5A132-41D4-404A-B939-A77FA185E0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77C1E-B54B-4AD5-A0E0-1D870FB1E1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54C38-B8D9-4166-9EF3-C7E8D3AE5D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FA0BD-509D-47AA-B613-D16A7C5BA4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C9006-ADF1-4D03-8C62-EF9322AB77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FA6FE-13B9-4350-965E-59C0F9DE15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67157-DE99-4B4A-8895-6FFCA0492A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69227-6AD7-45B5-9C30-E3B5DE83FB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5E126-A55C-4E8B-8597-79316B2630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51091-F90D-416D-AE4E-995DA5895E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B29A-74B3-432C-88D7-BFB535D03D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72711-A54E-458C-8B5E-1D3F4D1AC7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8E664-8DF1-416B-83D5-9E345DC59C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56389-1DB0-459B-897D-8392E06070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F87C8-4BE3-4667-894B-EBA56512829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FFB98-1F57-41E0-A3CA-145180C103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58535-B80E-4754-AD71-1BE084861D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2F5D7-3E8D-462C-B830-3FBA4DDE46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0FCEC-5DF7-4202-90DD-97A34970FF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73A74-BF42-4A10-A533-4C87CC9F5D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FD1C4-6B52-45BA-B420-492BB14505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3AFED-C336-4FF3-9639-6FFE21372E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3DD4D-07D5-474C-811D-A23A1CBA3C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885960" y="2371680"/>
            <a:ext cx="7372080" cy="552600"/>
          </a:xfrm>
          <a:prstGeom prst="rect">
            <a:avLst/>
          </a:prstGeom>
          <a:ln w="0">
            <a:noFill/>
          </a:ln>
        </p:spPr>
      </p:pic>
      <p:pic>
        <p:nvPicPr>
          <p:cNvPr id="1025" name="图片 2" descr=""/>
          <p:cNvPicPr/>
          <p:nvPr/>
        </p:nvPicPr>
        <p:blipFill>
          <a:blip r:embed="rId2"/>
          <a:stretch/>
        </p:blipFill>
        <p:spPr>
          <a:xfrm>
            <a:off x="2157480" y="3333600"/>
            <a:ext cx="482904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8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9" name="图片 1" descr=""/>
          <p:cNvPicPr/>
          <p:nvPr/>
        </p:nvPicPr>
        <p:blipFill>
          <a:blip r:embed="rId2"/>
          <a:stretch/>
        </p:blipFill>
        <p:spPr>
          <a:xfrm>
            <a:off x="514440" y="1743120"/>
            <a:ext cx="8115120" cy="337176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3"/>
          <a:stretch/>
        </p:blipFill>
        <p:spPr>
          <a:xfrm>
            <a:off x="1547640" y="230508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4"/>
          <a:stretch/>
        </p:blipFill>
        <p:spPr>
          <a:xfrm>
            <a:off x="5364000" y="2319480"/>
            <a:ext cx="1368720" cy="3841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5"/>
          <a:stretch/>
        </p:blipFill>
        <p:spPr>
          <a:xfrm>
            <a:off x="1547640" y="327024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6"/>
          <a:stretch/>
        </p:blipFill>
        <p:spPr>
          <a:xfrm>
            <a:off x="5003640" y="3255840"/>
            <a:ext cx="1368720" cy="38412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7"/>
          <a:stretch/>
        </p:blipFill>
        <p:spPr>
          <a:xfrm>
            <a:off x="1547640" y="414972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8"/>
          <a:stretch/>
        </p:blipFill>
        <p:spPr>
          <a:xfrm>
            <a:off x="5435640" y="4164120"/>
            <a:ext cx="136836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8" name="图片 1" descr=""/>
          <p:cNvPicPr/>
          <p:nvPr/>
        </p:nvPicPr>
        <p:blipFill>
          <a:blip r:embed="rId1"/>
          <a:stretch/>
        </p:blipFill>
        <p:spPr>
          <a:xfrm>
            <a:off x="538200" y="1343160"/>
            <a:ext cx="8066160" cy="41716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2"/>
          <a:stretch/>
        </p:blipFill>
        <p:spPr>
          <a:xfrm>
            <a:off x="1547640" y="184464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3"/>
          <a:stretch/>
        </p:blipFill>
        <p:spPr>
          <a:xfrm>
            <a:off x="1547640" y="278136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4"/>
          <a:stretch/>
        </p:blipFill>
        <p:spPr>
          <a:xfrm>
            <a:off x="1547640" y="371628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5"/>
          <a:stretch/>
        </p:blipFill>
        <p:spPr>
          <a:xfrm>
            <a:off x="1547640" y="4624560"/>
            <a:ext cx="4320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5" name="图片 1" descr=""/>
          <p:cNvPicPr/>
          <p:nvPr/>
        </p:nvPicPr>
        <p:blipFill>
          <a:blip r:embed="rId1"/>
          <a:stretch/>
        </p:blipFill>
        <p:spPr>
          <a:xfrm>
            <a:off x="338040" y="2095560"/>
            <a:ext cx="8466120" cy="2666880"/>
          </a:xfrm>
          <a:prstGeom prst="rect">
            <a:avLst/>
          </a:prstGeom>
          <a:ln w="0">
            <a:noFill/>
          </a:ln>
        </p:spPr>
      </p:pic>
      <p:pic>
        <p:nvPicPr>
          <p:cNvPr id="1046" name="图片 6146" descr=""/>
          <p:cNvPicPr/>
          <p:nvPr/>
        </p:nvPicPr>
        <p:blipFill>
          <a:blip r:embed="rId2"/>
          <a:stretch/>
        </p:blipFill>
        <p:spPr>
          <a:xfrm>
            <a:off x="1476360" y="3068640"/>
            <a:ext cx="7272360" cy="565200"/>
          </a:xfrm>
          <a:prstGeom prst="rect">
            <a:avLst/>
          </a:prstGeom>
          <a:ln w="0">
            <a:noFill/>
          </a:ln>
        </p:spPr>
      </p:pic>
      <p:pic>
        <p:nvPicPr>
          <p:cNvPr id="1047" name="图片 6147" descr=""/>
          <p:cNvPicPr/>
          <p:nvPr/>
        </p:nvPicPr>
        <p:blipFill>
          <a:blip r:embed="rId3"/>
          <a:stretch/>
        </p:blipFill>
        <p:spPr>
          <a:xfrm>
            <a:off x="1460520" y="4119480"/>
            <a:ext cx="727236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0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5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0" name="图片 1" descr=""/>
          <p:cNvPicPr/>
          <p:nvPr/>
        </p:nvPicPr>
        <p:blipFill>
          <a:blip r:embed="rId1"/>
          <a:stretch/>
        </p:blipFill>
        <p:spPr>
          <a:xfrm>
            <a:off x="85680" y="1209600"/>
            <a:ext cx="8972640" cy="443880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2"/>
          <a:stretch/>
        </p:blipFill>
        <p:spPr>
          <a:xfrm>
            <a:off x="7524720" y="2722680"/>
            <a:ext cx="1295280" cy="38412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3"/>
          <a:stretch/>
        </p:blipFill>
        <p:spPr>
          <a:xfrm>
            <a:off x="7451640" y="3587760"/>
            <a:ext cx="1295640" cy="38412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4"/>
          <a:stretch/>
        </p:blipFill>
        <p:spPr>
          <a:xfrm>
            <a:off x="7451640" y="4826160"/>
            <a:ext cx="129564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6" name="图片 1" descr=""/>
          <p:cNvPicPr/>
          <p:nvPr/>
        </p:nvPicPr>
        <p:blipFill>
          <a:blip r:embed="rId1"/>
          <a:stretch/>
        </p:blipFill>
        <p:spPr>
          <a:xfrm>
            <a:off x="352440" y="2143080"/>
            <a:ext cx="8439120" cy="257184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2"/>
          <a:stretch/>
        </p:blipFill>
        <p:spPr>
          <a:xfrm>
            <a:off x="7164360" y="2579760"/>
            <a:ext cx="1224000" cy="38412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3"/>
          <a:stretch/>
        </p:blipFill>
        <p:spPr>
          <a:xfrm>
            <a:off x="3708360" y="3832200"/>
            <a:ext cx="295128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8:31:39Z</dcterms:modified>
  <cp:revision>3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